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EB8F-5943-407F-A2AE-33CD67E9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odine4health.com/body/thyroid/trh_tsh_th_loop_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fcea-infotech.org/tag/symptoms-of-hypothyroid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ampabayweightloss.org/LinkHelper.aspx?pTID=1&amp;gCID=2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243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lderlyelder.com/calcium_suppleme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upui.edu/~anatd502/lecture.f04/Endof04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rainmadesimple.com/hypothalam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dochick.wordpress.com/tag/pituitary-glan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ookfordiagnosis.com/mesh_info.php?term=Pituitary+Hormones%2C+Posterior&amp;lang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swers.com/topic/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bcottingham.ca/cartoon/archive/place-your-bladders-in-the-locked-and-upright-posi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kdrmakkar.com/hyperth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3EC-5658-4658-943F-4F10AAF4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C2-14C1-4F88-933D-4544A936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FE6-BFAA-426E-97C9-90C7719F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D44-7EBE-4335-A3D4-9C1E1740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05E-81B1-4E48-B91A-744F1D5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B3F-F99A-45DA-B852-61A16BCB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09A-BB54-4655-A1E9-8439995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AC2-FCAE-4C2D-8C00-1FB67CF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546-ECFD-4BE2-885D-2BDE2FA6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CAB-C0DD-4F23-B595-E1B1C6A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8EB-154B-4A61-ABB6-C4869DE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083-A3ED-4070-8813-4249552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A0C-B12D-4DB1-B70F-989015FC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roxine contains 4 iodine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deficiency in diet leads to goiters…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not an issue in North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59200" y="1981080"/>
            <a:ext cx="3586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thyroid hormone (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H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the thyroid) work together to regulate blood 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mal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effects of too much 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little 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139840"/>
            <a:ext cx="38098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1760" y="609480"/>
            <a:ext cx="366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travel through the blood to the pituit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660760"/>
            <a:ext cx="38098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below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ajor lobes (anterior &amp; pos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298600"/>
            <a:ext cx="38098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&amp; 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9200" y="1981080"/>
            <a:ext cx="430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ion of most hormones is regulated by negative feedback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695680"/>
            <a:ext cx="38098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feedback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“diuretic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st common are caffeine and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 make you urinate fr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24240" y="1600200"/>
            <a:ext cx="4503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roxine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ipid-soluble hormone that increases metabolic rate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s cell and is converted t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4:17:31Z</dcterms:created>
  <dc:creator>rubina khan</dc:creator>
  <dc:description/>
  <dc:language>en-US</dc:language>
  <cp:lastModifiedBy>rubina khan</cp:lastModifiedBy>
  <dcterms:modified xsi:type="dcterms:W3CDTF">2013-01-08T05:19:15Z</dcterms:modified>
  <cp:revision>47</cp:revision>
  <dc:subject/>
  <dc:title>The Endocrine Glands</dc:title>
</cp:coreProperties>
</file>